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1F4-997E-40E5-85F9-8CCBF196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4DB-867E-4445-BC13-52017493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357-7D91-4758-A20C-EF90B980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5E7-A8F2-4F88-9780-49667E42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DFB7-3CC5-4CDE-97C5-2655A1DF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98FB-2E84-4894-8386-539BF5A2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8311-802E-480B-931A-A1600794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468A-4CBF-4D54-9617-A84B1666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D2FE-4A10-48C3-B430-298EA44B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26C6-82E7-4ACA-B01C-EEA462ED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D0DC-5032-4F81-B354-EFAA7DB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862-9E78-47D3-ACCA-253DBBCF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4E16-7D58-4758-A075-09CFBEDC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86C4-3156-4970-A509-E7C52144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2C23-3B48-4185-AB54-B88D4591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12A1-635E-4FC0-945E-C92DD2C6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0C19-693B-4EEF-AC86-D99D10BB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000C-4F39-4D28-BAFF-810DEE26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E84F-F8D9-4DDC-B09D-91FAAE05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2337-3780-4DA6-9DBE-FA1F8EE3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FBDC5-F966-4076-9065-2AD5E3D1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383E-2224-4A72-963C-4E321B8F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63F-22FD-48E5-9060-140D632B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F479-8639-477B-A685-5E28DAEA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821F-1E50-42E8-A857-BCC02A20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6BC9-65D3-4578-8429-1EE65F84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CA824-E89C-442E-AE89-3D82697B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583E-C460-47F6-9BC1-943E3560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7570-0F43-4BA4-AE4F-D42ACDAC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6345-25B6-4EC1-B2F8-6EFE2AAF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A7429-18C0-49CF-8CD5-7A8B1C76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331F-9A48-4671-AFB4-29922871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9BE3C-B6D7-434D-BF59-399114F7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F5D-709D-4E03-B431-35247F5D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61611-969F-4328-9CA9-95653065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6CD6A-8696-4669-B7BF-50BE173F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F7F6-615B-4FA0-948D-27EABF6E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92C8-26EA-4685-B8B3-6932060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F5196-4770-4234-A9AE-08AECBC2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64F40-AB7F-40DC-8738-F28D51A3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FD72-DF04-4508-87F5-4D575AC3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F556-144C-45A3-B979-77679E00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380A3-5F5B-47A6-8327-35F1E46A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1C18-06E9-46E3-9327-828E5EBA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4F3-7C55-45A0-86C8-CC8477E7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7000-912E-422B-B5CB-7BB37078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7DA2E-67CF-4EA1-8EDE-8C834CE6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D06B4-9EAB-4BAC-97B3-1EBA4B0B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0465A-3920-405A-83A2-0198C77D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0C91-08B3-4A64-B5BB-4A3E9390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85F57-8A19-4B85-9A1A-9B859132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B5BDE-33D1-48A7-9694-3EE98486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206B-0AB9-43BC-8D29-9D9E832C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D7C7-8DB4-4866-B40D-5DA35576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647E1-9BFE-4825-9F78-6BCEB2C0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6B4-3407-46BE-94AE-DEA096F4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C4D8C-469B-4627-A398-9E4072D9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DF438-F66B-4FB7-AD20-183F95F4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BCA98-4962-4F32-8DAE-3AD6CA70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8DBB5-FC79-4E78-A0E1-00187203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AEED0-9EF8-4E54-9579-F52A3B8D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F2AC-A3BD-4549-B0F2-FC9A167D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AF10F-6F39-4F2B-9058-6C3BC922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07BE4-3A25-4A9E-BB7A-6A465752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B0492-D824-4163-8D6D-E763205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0A7EF-73B7-4BC9-83B6-7C8C05A2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BFF-0935-4AC6-A24B-220A2FFB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A7B3E-270F-47F0-AC3B-59BD3367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27C86-C749-4CF7-973C-CC1C5587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4A07D-6F11-4D7F-A4C4-BE547A12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579B3-69E0-4B1E-A12B-15A49228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42DF1-A8EC-44E1-A5E8-DD54674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A5E35-781B-458E-A4DD-64FBEC5C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3EA9C-284F-4A0A-96A0-D6ACBA68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7E32-31AA-4407-92CD-8A89888D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D9654-4C35-49BB-AC7B-5C3C8A2C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1494C-A6CF-4055-905B-FF0B0698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A85-F2C6-4AF2-B144-A01A1D8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2165-D2A1-43F2-A4BD-4666E0AE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4A653-93DF-4316-8D1E-5589C268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AC63A-BB5A-4B34-B3D0-4BC41E3E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24DC8-3D42-4BB3-83A5-9ADC0545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943EA-65A9-4BD3-90AF-98E30224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0E7-EE70-4070-B336-4DE33DB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8f8f8">
              <a:alpha val="33000"/>
            </a:srgbClr>
          </a:solidFill>
          <a:ln cap="rnd" w="3240">
            <a:solidFill>
              <a:srgbClr val="b4b4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cecef"/>
            </a:solidFill>
            <a:miter/>
          </a:ln>
          <a:effectLst>
            <a:outerShdw dist="12600" dir="5400000" blurRad="0" rotWithShape="0">
              <a:srgbClr val="9b9b9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5617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bb7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E89A-C15F-4E3B-AE0D-78078C06C9CC}" type="slidenum"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8f8f8">
              <a:alpha val="33000"/>
            </a:srgbClr>
          </a:solidFill>
          <a:ln cap="rnd" w="3240">
            <a:solidFill>
              <a:srgbClr val="b4b4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cecef"/>
            </a:solidFill>
            <a:miter/>
          </a:ln>
          <a:effectLst>
            <a:outerShdw dist="12600" dir="5400000" blurRad="0" rotWithShape="0">
              <a:srgbClr val="9b9b9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398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5617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bb7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89FB-0BDB-4F03-A859-33BC81D95667}" type="slidenum"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398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5617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bb7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E224-0701-4253-9389-9BD9E617B90D}" type="slidenum"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5617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bb7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2372-15C4-4FD8-A58B-82B10C1CEDB3}" type="slidenum"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666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5617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bb7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F6C5-7B37-4F5D-9ADC-266D1B4A76AC}" type="slidenum"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5617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bb7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C22A-A3A9-428B-A484-35D487AFDE88}" type="slidenum"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9cd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4d4d6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5617c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ad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60b5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bb76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b9b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8E1F-6948-4067-A0CB-4295D536636E}" type="slidenum">
              <a:rPr b="0" lang="en-US" sz="1200" spc="-1" strike="noStrike">
                <a:solidFill>
                  <a:srgbClr val="9b9b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55617c"/>
                </a:solidFill>
                <a:latin typeface="Corbel"/>
              </a:rPr>
              <a:t>Сочинение-рассуждение</a:t>
            </a:r>
            <a:br>
              <a:rPr sz="4400"/>
            </a:br>
            <a:r>
              <a:rPr b="1" lang="en-US" sz="4400" spc="-1" strike="noStrike">
                <a:solidFill>
                  <a:srgbClr val="55617c"/>
                </a:solidFill>
                <a:latin typeface="Corbel"/>
              </a:rPr>
              <a:t>на итоговой аттестации </a:t>
            </a:r>
            <a:br>
              <a:rPr sz="4400"/>
            </a:br>
            <a:r>
              <a:rPr b="1" lang="en-US" sz="4400" spc="-1" strike="noStrike">
                <a:solidFill>
                  <a:srgbClr val="55617c"/>
                </a:solidFill>
                <a:latin typeface="Corbel"/>
              </a:rPr>
              <a:t>в 9  классе.</a:t>
            </a:r>
            <a:endParaRPr b="0" lang="en-US" sz="4400" spc="-1" strike="noStrike">
              <a:solidFill>
                <a:srgbClr val="55617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кольку, так как, так что, если, хотя, несмотря нато, чт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0" y="0"/>
          <a:ext cx="9144000" cy="7142040"/>
        </p:xfrm>
        <a:graphic>
          <a:graphicData uri="http://schemas.openxmlformats.org/drawingml/2006/table">
            <a:tbl>
              <a:tblPr/>
              <a:tblGrid>
                <a:gridCol w="1643040"/>
                <a:gridCol w="2000160"/>
                <a:gridCol w="1857600"/>
                <a:gridCol w="3643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ды рассу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водные слова, нареч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ю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чевые обор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каза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-первых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-вторых, следовательно, итак, таким образом, поэтому, потому, тогда, напри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кольку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к как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виду того что, вследствие чег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результате чего, так чт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связи с чем, ес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этого следует, что..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юда заключаем, что..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чего вытекает, чт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то позволяет предположить, чт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положим, что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устим, чт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казательством служит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 этом свидетельствует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6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я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пример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ким образом, поэт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к как, потому что, благодаря тому что, посколь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чина состоит в следующем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кажем на причин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то объясняется тем, что..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то зависит от..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то связано с тем, что ..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то является следствием того, что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28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ыш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-моему, по моему мнению, по моему убеждению, на мой взгляд, как мне кажет­ся, скорее всего, оче­видно, поэтому, потому, отсюда, таким образ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кольку; так как; так что, если, хотя, несмотря на то, ч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полагаю, что...; попробуем сравнить...; попытаемся разобраться...; причина состоит в том, что...; это можно объяснить тем, что...; всё зависит от того, что...; это позволяет предполо­жить, что...; получается, что...; предположим, что...; допустим, что...; мне близка  мысль  о  том, что...; я согласна с тем, что...; некоторые сомнения у меня возникают, когда...; я могу с уверенностью сказать (утверждать), что...; я убежден, что..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е хочется сделать вывод о том, что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Типичные ошибки в композиции текста рассуждения:</a:t>
            </a:r>
            <a:endParaRPr b="0" lang="en-US" sz="36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есоразмерность частей компози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затянутое вступлени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едостаточный объем основной ча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слишком большой объем концовк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отсутствие какой-либо композиционной части (вступления, заключения; в этом случае текст как будто оборван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едостаточная последовательность изложения (автор «перескакивает» с одного объекта на другой, с одной темы на  другую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несоответствие построения текста адресату, целям и задачам авто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5617c"/>
                </a:solidFill>
                <a:latin typeface="Corbel"/>
              </a:rPr>
              <a:t>Список литературы</a:t>
            </a:r>
            <a:endParaRPr b="0" lang="en-US" sz="4300" spc="-1" strike="noStrike">
              <a:solidFill>
                <a:srgbClr val="55617c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авлова Т.И., РанневаН.А.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чинение – рассуждение на итоговой аттестации:УМП; Ростов н/Дону: Легион, 200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Капинос В.И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витие речи: теория и практика  обучения: Кн. Для учителя; М.: Линка-Пресс, 199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Цыбулько И.П., Александров В.Н., Пучкова Л.И., Соловьева Т.В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сударственная итоговая аттестация выпускников 9 классов в новой форме. Русский язык. 2009/ФИПИ.- М.: «Интеллект-центр», 200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071360" y="0"/>
            <a:ext cx="8072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Рассужде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тип речи, в котором указываются причины и следствия того или иного явления, полож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ается объяснение какому-либо явлению, предмету, факту, сообщению и т.д.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just">
              <a:lnSpc>
                <a:spcPct val="9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основными вопросами рассуждения являютс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Почему это ест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Почему это произошло, случилос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Почему так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rbel"/>
              </a:rPr>
              <a:t>ОСНОВА РАССУЖДЕНИЯ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rbel"/>
              </a:rPr>
              <a:t>причинно-следственные отношения, доказатель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Строение текста типа рассужд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ТЕЗИ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ОКАЗАТЕЛЬСТВА(аргументы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21" name="Прямая со стрелкой 4"/>
          <p:cNvCxnSpPr/>
          <p:nvPr/>
        </p:nvCxnSpPr>
        <p:spPr>
          <a:xfrm flipH="1">
            <a:off x="5000400" y="1714320"/>
            <a:ext cx="2160" cy="572040"/>
          </a:xfrm>
          <a:prstGeom prst="straightConnector1">
            <a:avLst/>
          </a:prstGeom>
          <a:ln w="936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322" name="Прямая со стрелкой 9"/>
          <p:cNvCxnSpPr/>
          <p:nvPr/>
        </p:nvCxnSpPr>
        <p:spPr>
          <a:xfrm flipH="1">
            <a:off x="5000400" y="2857320"/>
            <a:ext cx="2160" cy="573480"/>
          </a:xfrm>
          <a:prstGeom prst="straightConnector1">
            <a:avLst/>
          </a:prstGeom>
          <a:ln w="9360">
            <a:solidFill>
              <a:srgbClr val="f0a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71360" y="0"/>
            <a:ext cx="8072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Композиция рассужд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1. Вступление (зачин)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– сообщаются предварительные сведения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 предмете рассужд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2. Основная часть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а)формулирование основного текста;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б)приведение аргументов как последовательность доказательства тезис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3. Заключение-вывод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Способы грамматической связи между тезисом и доказательствами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-вводные слова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во-первых, во-вторых, следовательно, таким образом, наконец и др.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-союзы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однако, хотя, потому что, так как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для того чтобы, несмотря на и др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85520" y="0"/>
            <a:ext cx="8358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rbel"/>
              </a:rPr>
              <a:t>Виды доказательст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1. Дедуктив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от тезиса к доказательства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 Книга –лучший учитель. Например,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2. Индуктив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от примера к текст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Книга помогает найти ответы на многие вопросы.  Значит, книга –лучший учитель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28800" y="0"/>
            <a:ext cx="8215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3. Прямы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а) Ссылка на общее суждение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не требующее дополнительных доказательст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Каждый человек хочет быть счастливым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б) Ссылка на авторитетный источник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цитата; проверенные, достоверные факты, события; статистические данные; положения законов и официальных документов; законы природы; выводы, подтвержденные экспериментально; показания очевидцев; примеры из художественной литературы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71680" y="-360"/>
            <a:ext cx="8572320" cy="67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Луну называют богиней ночи. Это - наш молчаливый сосед, на ней нет жизни. Она вращается вокруг Земли на расстоянии 384400икилометров (238,618 миль). Полный оборот Луны вокруг Земли происходит за 27 дней и 12 ча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тот факт, описанный Г.Шалаевой в своих трудах, имеет особое значение. Он означает, что мы никогда не сможем увидеть другую сторону Луны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в) Указание причин верности, точности, достоверности выдвинутого тезис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г) Приведение аналогии, сравн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71680" y="0"/>
            <a:ext cx="857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4. Косвен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доказательства от противного: через опровержение истинности противоположного тезис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9:53:34Z</dcterms:created>
  <dc:creator>Пользователь</dc:creator>
  <dc:description/>
  <dc:language>en-US</dc:language>
  <cp:lastModifiedBy>User</cp:lastModifiedBy>
  <dcterms:modified xsi:type="dcterms:W3CDTF">2010-03-13T10:45:01Z</dcterms:modified>
  <cp:revision>15</cp:revision>
  <dc:subject/>
  <dc:title>    Сочинение-рассуждение на итоговой аттестации в 9 и 11 классах.</dc:title>
</cp:coreProperties>
</file>